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71D2-F6F4-4F87-9C78-4766E6DE2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E533-EC1B-4306-843C-AE01A4381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4783-B277-4ED0-9BB3-4A79A2B63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A075-A849-4BC7-BA55-21DD0CFF4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4533-8DA6-455E-9360-D2774B552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CDAB-BB8E-4115-8019-322EC422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1D79-9B69-437A-AF84-A230AEC96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F3C6-BC95-4625-B003-7E9BB7C91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0C78-AA58-4B7F-A55D-9BC93B1CA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2884-6F50-4763-B330-5F61076F1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B2BB-37D5-4F5C-BA75-57B537DCA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9D06-8EC0-4104-9987-BA8551E75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12372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CCBE8D-B38F-430A-97AE-1213100CF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d04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Oracle Academy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120" y="3567240"/>
            <a:ext cx="541044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version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har -&gt; Date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_DATE('data', 'format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folosesc aceleasi formate ca si la TO_CHAR cu urmatoarele restrict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se pot folosi siruri incluse intre ghilim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date('10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','dd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"of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, YYYY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ero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lele nu pot fi scrise cu litere, trebuie sa fie num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date(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'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, YYYY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ero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D201-A4A9-4570-B1F8-07A1E4957E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RR and YY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42425" t="21552" r="6061" b="21886"/>
          <a:stretch/>
        </p:blipFill>
        <p:spPr>
          <a:xfrm>
            <a:off x="1295280" y="2057400"/>
            <a:ext cx="464832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C6C6-99CA-41CD-AA81-62CC55A51A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RR and YY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3376-9BC6-4FB5-8B80-8A2FEBA24A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30" t="28306" r="51386" b="49153"/>
          <a:stretch/>
        </p:blipFill>
        <p:spPr>
          <a:xfrm>
            <a:off x="1600200" y="2438280"/>
            <a:ext cx="5943600" cy="21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CE29-C3B1-42EF-8243-3C95C633C2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_CHAR (data, 'format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vintele dintre ghilimele in format sunt inserate in sirul afisat exact cum a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tiile ce apar informat sunt reproduse in rezultatul af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 – elimina spatiile sau zerourile nesemnif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o_char(sysdate,'dd "din luna" mm "a anului" YYYY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10 din luna </a:t>
            </a: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a anului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f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d "din luna" mm "a anului" YYYY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10 din luna 3 a anului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825A-335E-425D-A5AB-FE941C9AD5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-mon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-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Two Thousand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TWO THOUSAND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49B4-89F5-4AD7-9ECF-9DCA9D2E20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fm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9948-0EAB-471E-82AB-CD5B53DF32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A2A2-6358-44A7-8B85-68359702C2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S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se poate combina cu YYY, DD, MM, HH,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s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e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-7,'dd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s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hi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DDE5-BC73-4F86-A8D3-C71C7CDCCD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ziua din luna (1..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th DDTH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spell is set by</a:t>
            </a: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 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he </a:t>
            </a: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th D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th d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63E7-B5B5-4AE9-91CB-641A19F23D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ziua din saptamana (1..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ay, 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Friday,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abrevierea cu trei carac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Y, 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FRI,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ziua din an (1..3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d "of" 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9FBB-8E6B-4EC2-92A7-E4824A86B0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10:22Z</dcterms:created>
  <dc:creator>carmen</dc:creator>
  <dc:description/>
  <dc:language>en-US</dc:language>
  <cp:lastModifiedBy>kome</cp:lastModifiedBy>
  <dcterms:modified xsi:type="dcterms:W3CDTF">2007-09-18T17:50:13Z</dcterms:modified>
  <cp:revision>58</cp:revision>
  <dc:subject/>
  <dc:title>Oracle Academy</dc:title>
</cp:coreProperties>
</file>